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0C3DD0-CAC0-4FE2-80C0-375459F5E8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BF7B283-29A2-432E-8286-3369F5553C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4952FDA-1EFA-4081-8AA2-A244918C60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AA38F2A-3161-4C97-B9CF-DC30088AD1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FDA6C93-C115-447C-A60C-12ED890BF1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A94CE3B-7FB7-436C-A195-8900797FA0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02F6DEF-2CC4-42BC-823B-E94354C8D5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6FC5189-81D1-4095-B497-5BE97E5314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0CFADA8-FA67-4FDD-846B-0C2AC745D2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AE54564-6DBF-41E8-84BF-702B3BFEB2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6A121EB-23AD-4C62-884B-5BBB25DE2B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251170C-0699-4EA6-B774-6B43E5B500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C7813-3A5A-4D6D-B70F-AFBC1627889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43960"/>
              <a:ext cx="9115560" cy="1813680"/>
              <a:chOff x="28440" y="5043960"/>
              <a:chExt cx="9115560" cy="1813680"/>
            </a:xfrm>
          </p:grpSpPr>
          <p:sp>
            <p:nvSpPr>
              <p:cNvPr id="56"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600" spc="-1" strike="noStrike">
                <a:solidFill>
                  <a:srgbClr val="ff0000"/>
                </a:solidFill>
                <a:latin typeface="黑体"/>
                <a:ea typeface="黑体"/>
              </a:rPr>
              <a:t>第六章 </a:t>
            </a:r>
            <a:br>
              <a:rPr sz="3600"/>
            </a:br>
            <a:r>
              <a:rPr b="1" lang="zh-CN" sz="3600" spc="-1" strike="noStrike">
                <a:solidFill>
                  <a:srgbClr val="ff0000"/>
                </a:solidFill>
                <a:latin typeface="黑体"/>
                <a:ea typeface="黑体"/>
              </a:rPr>
              <a:t>精神分裂症患者的护理</a:t>
            </a:r>
            <a:endParaRPr b="0" lang="en-US" sz="36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Verdana"/>
                <a:ea typeface="宋体"/>
              </a:rPr>
              <a:t>制作人    邵山红</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 name="矩形 2"/>
          <p:cNvSpPr/>
          <p:nvPr/>
        </p:nvSpPr>
        <p:spPr>
          <a:xfrm>
            <a:off x="1285920" y="1214280"/>
            <a:ext cx="671508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题】属于精神分裂症阳性症状的是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思维缺乏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情感平淡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思维散漫</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情感淡漠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意志减退</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C</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4" presetSubtype="16">
                                  <p:stCondLst>
                                    <p:cond delay="0"/>
                                  </p:stCondLst>
                                  <p:childTnLst>
                                    <p:set>
                                      <p:cBhvr>
                                        <p:cTn id="20" dur="1" fill="hold">
                                          <p:stCondLst>
                                            <p:cond delay="0"/>
                                          </p:stCondLst>
                                        </p:cTn>
                                        <p:tgtEl>
                                          <p:spTgt spid="125">
                                            <p:txEl>
                                              <p:pRg st="6" end="6"/>
                                            </p:txEl>
                                          </p:spTgt>
                                        </p:tgtEl>
                                        <p:attrNameLst>
                                          <p:attrName>style.visibility</p:attrName>
                                        </p:attrNameLst>
                                      </p:cBhvr>
                                      <p:to>
                                        <p:strVal val="visible"/>
                                      </p:to>
                                    </p:set>
                                    <p:animEffect filter="box(in)" transition="in">
                                      <p:cBhvr additive="repl">
                                        <p:cTn id="21"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临床分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单纯型</a:t>
            </a:r>
            <a:r>
              <a:rPr b="1" lang="zh-CN" sz="2800" spc="-1" strike="noStrike">
                <a:solidFill>
                  <a:srgbClr val="000000"/>
                </a:solidFill>
                <a:latin typeface="宋体"/>
                <a:ea typeface="宋体"/>
              </a:rPr>
              <a:t>　较少见。于青少年期发病，起病缓慢，持续进行，病情自动缓解者少。早期可出现类似神经衰弱的症状，易疲劳、软弱无力、失眠、工作效率下降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为日益加重的孤僻、被动、生活懒散和情感淡漠。幻觉妄想不明显。此型患者在发病早期常不被注意，可被误认为不开朗或性格内向，往往经过数年病情发展至较严重时才被发现。治疗效果与预后较差。</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青春型：较常见。多发病于青春期，起病较急。</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紧张型：此型逐渐减少。起病较快，多在青壮年发病，以木僵状态多见，以紧张症候群表现为主。此型可自行缓解，治疗效果较其他类型好。</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偏执型：又称妄想型。</a:t>
            </a:r>
            <a:r>
              <a:rPr b="1" lang="zh-CN" sz="2800" spc="-1" strike="noStrike">
                <a:solidFill>
                  <a:srgbClr val="000000"/>
                </a:solidFill>
                <a:latin typeface="宋体"/>
                <a:ea typeface="宋体"/>
              </a:rPr>
              <a:t>占精神分裂症患者一半以上。发病年龄多在青壮年或中年，起病较缓慢。</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类型</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285840" y="1285560"/>
            <a:ext cx="8610480" cy="51433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男，</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岁。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时间孤僻、寡言，近期由于被上级批评后出现失眠，不上班并紧闭门窗，声称有人监视自己，在家中不敢谈话，说家中已被安装窃听器，公安局也要逮捕自己，不吃妻子做的饭食，认为妻子已同他人合伙在饭菜中放了毒药。因此殴打妻子。本病例最可能的诊断是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精神分裂症紧张型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精神分裂症偏执型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抑郁症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反应性精神障碍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躁狂症</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B</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30">
                                            <p:txEl>
                                              <p:pRg st="4" end="4"/>
                                            </p:txEl>
                                          </p:spTgt>
                                        </p:tgtEl>
                                        <p:attrNameLst>
                                          <p:attrName>style.visibility</p:attrName>
                                        </p:attrNameLst>
                                      </p:cBhvr>
                                      <p:to>
                                        <p:strVal val="visible"/>
                                      </p:to>
                                    </p:set>
                                    <p:animEffect filter="box(in)" transition="in">
                                      <p:cBhvr additive="repl">
                                        <p:cTn id="28" dur="500"/>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285560"/>
            <a:ext cx="861084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关于精神分裂症单纯型的临床不正确的说法是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起病多在青少年期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起病缓慢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以阴性症状为主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行为常有做态表现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几乎没有幻觉、妄想</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zh-CN" sz="2800" spc="-1" strike="noStrike">
                <a:solidFill>
                  <a:srgbClr val="000000"/>
                </a:solidFill>
                <a:latin typeface="宋体"/>
                <a:ea typeface="宋体"/>
              </a:rPr>
              <a:t>D</a:t>
            </a:r>
            <a:endParaRPr b="1" lang="en-US" sz="2800" spc="-1" strike="noStrike">
              <a:solidFill>
                <a:srgbClr val="8ac8de"/>
              </a:solidFill>
              <a:latin typeface="Verdana"/>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4" presetSubtype="16">
                                  <p:stCondLst>
                                    <p:cond delay="0"/>
                                  </p:stCondLst>
                                  <p:childTnLst>
                                    <p:set>
                                      <p:cBhvr>
                                        <p:cTn id="34" dur="1" fill="hold">
                                          <p:stCondLst>
                                            <p:cond delay="0"/>
                                          </p:stCondLst>
                                        </p:cTn>
                                        <p:tgtEl>
                                          <p:spTgt spid="132">
                                            <p:txEl>
                                              <p:pRg st="6" end="6"/>
                                            </p:txEl>
                                          </p:spTgt>
                                        </p:tgtEl>
                                        <p:attrNameLst>
                                          <p:attrName>style.visibility</p:attrName>
                                        </p:attrNameLst>
                                      </p:cBhvr>
                                      <p:to>
                                        <p:strVal val="visible"/>
                                      </p:to>
                                    </p:set>
                                    <p:animEffect filter="box(in)" transition="in">
                                      <p:cBhvr additive="repl">
                                        <p:cTn id="35" dur="500"/>
                                        <p:tgtEl>
                                          <p:spTgt spid="13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214200" y="1285560"/>
            <a:ext cx="87868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诊断</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依据特征性的思维和知觉障碍、情感不协调、平淡以及意志活动缺乏等症状，缓慢发展迁延的病程，无特殊阳性体征，大多数患者没有意识及智能障碍，常规化验均无特异性阳性发现，可考虑精神分裂症的诊断。当本病的特征性症状表现还不明显或症状不典型时，早期诊断较为困难，常需要经过较密切的观察才能确诊。</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现将</a:t>
            </a:r>
            <a:r>
              <a:rPr b="1" lang="en-US" sz="2800" spc="-1" strike="noStrike">
                <a:solidFill>
                  <a:srgbClr val="0000ff"/>
                </a:solidFill>
                <a:latin typeface="宋体"/>
                <a:ea typeface="宋体"/>
              </a:rPr>
              <a:t>ICD-10 </a:t>
            </a:r>
            <a:r>
              <a:rPr b="1" lang="zh-CN" sz="2800" spc="-1" strike="noStrike">
                <a:solidFill>
                  <a:srgbClr val="0000ff"/>
                </a:solidFill>
                <a:latin typeface="宋体"/>
                <a:ea typeface="宋体"/>
              </a:rPr>
              <a:t>介绍如下：</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142560" y="1371240"/>
            <a:ext cx="871524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症状标准　具备下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中的任何一组（如不甚明确常需两个或多个症状）或（</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至少两组症状群中的十分明确的症状。</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a:solidFill>
                  <a:srgbClr val="ff0000"/>
                </a:solidFill>
                <a:latin typeface="宋体"/>
                <a:ea typeface="宋体"/>
              </a:rPr>
              <a:t>思维</a:t>
            </a:r>
            <a:r>
              <a:rPr b="1" lang="zh-CN" sz="2800" spc="-1" strike="noStrike">
                <a:solidFill>
                  <a:srgbClr val="000000"/>
                </a:solidFill>
                <a:latin typeface="宋体"/>
                <a:ea typeface="宋体"/>
              </a:rPr>
              <a:t>鸣响、思维插入、思维被撤走及思维广播</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被控制或被动妄想、</a:t>
            </a:r>
            <a:r>
              <a:rPr b="1" lang="zh-CN" sz="2800" spc="-1" strike="noStrike">
                <a:solidFill>
                  <a:srgbClr val="ff0000"/>
                </a:solidFill>
                <a:latin typeface="宋体"/>
                <a:ea typeface="宋体"/>
              </a:rPr>
              <a:t>妄想</a:t>
            </a:r>
            <a:r>
              <a:rPr b="1" lang="zh-CN" sz="2800" spc="-1" strike="noStrike">
                <a:solidFill>
                  <a:srgbClr val="000000"/>
                </a:solidFill>
                <a:latin typeface="宋体"/>
                <a:ea typeface="宋体"/>
              </a:rPr>
              <a:t>性知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对患者的行为进行跟踪性评论，或彼此对患者加以讨论的</a:t>
            </a:r>
            <a:r>
              <a:rPr b="1" lang="zh-CN" sz="2800" spc="-1" strike="noStrike">
                <a:solidFill>
                  <a:srgbClr val="ff0000"/>
                </a:solidFill>
                <a:latin typeface="宋体"/>
                <a:ea typeface="宋体"/>
              </a:rPr>
              <a:t>幻听</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与文化不相称且根本不可能的其他类型的持续性妄想</a:t>
            </a: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伴转瞬即逝或未充分形成的无明显情感内容的妄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思维断裂或无关的插入语</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紧张性行为，如兴奋、摆姿势，或蜡样屈曲、违拗、缄默及木僵</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阴性症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个人行为的某些方面发生显著而持久的总体性质的改变，表现为丧失兴趣、懒散、自我专注及社会退缩</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285480" y="1285560"/>
            <a:ext cx="84294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严重标准</a:t>
            </a:r>
            <a:r>
              <a:rPr b="1" lang="en-US" sz="2800" spc="-1" strike="noStrike">
                <a:solidFill>
                  <a:srgbClr val="000000"/>
                </a:solidFill>
                <a:latin typeface="宋体"/>
                <a:ea typeface="宋体"/>
              </a:rPr>
              <a:t>:</a:t>
            </a:r>
            <a:r>
              <a:rPr b="1" lang="zh-CN" sz="2800" spc="-1" strike="noStrike">
                <a:solidFill>
                  <a:srgbClr val="ff0000"/>
                </a:solidFill>
                <a:latin typeface="宋体"/>
                <a:ea typeface="宋体"/>
              </a:rPr>
              <a:t>自知力障碍</a:t>
            </a:r>
            <a:r>
              <a:rPr b="1" lang="zh-CN" sz="2800" spc="-1" strike="noStrike">
                <a:solidFill>
                  <a:srgbClr val="000000"/>
                </a:solidFill>
                <a:latin typeface="宋体"/>
                <a:ea typeface="宋体"/>
              </a:rPr>
              <a:t>，并有社会功能严重受损或无法进行有效交谈。</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病程标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符合症状标准和严重标准至少已持续</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个月</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排除标准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排除器质性精神障碍及其他精神障碍。尚未缓解的精神分裂症患者，若又罹患本项中前述两类疾病，应并列诊断。</a:t>
            </a: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治疗原则与预后</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早期、足量、足疗程、单一、个体化用药。</a:t>
            </a:r>
            <a:r>
              <a:rPr b="1" lang="zh-CN" sz="2800" spc="-1" strike="noStrike">
                <a:solidFill>
                  <a:srgbClr val="000000"/>
                </a:solidFill>
                <a:latin typeface="Verdana"/>
                <a:ea typeface="宋体"/>
              </a:rPr>
              <a:t>当患者有抑郁症状时，可合并抗抑郁药物。</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长期使用抗精神障碍药物，易出现迟发性运动障碍。应尽量预防其发生。故应：①尽可能用最小剂量，保持最佳效应；②避免用超大剂量；③尽可能少用抗胆碱能药物；④可采用“药物假期”，即周末停药；⑤早期识别迟发性运动障碍。</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214200" y="1371240"/>
            <a:ext cx="87868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掌握：</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精神分裂症的概述、临床症状、护理措施。</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熟悉：</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精神分裂症的临床分型、护理诊断、治疗用药。</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精神分裂症的病史评估、护理评价。</a:t>
            </a:r>
            <a:endParaRPr b="1" lang="en-US" sz="32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抗精神障碍药物治疗：一般疗程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常用的抗精神障碍药物有：</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代（经典抗精神病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阻断</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起到抗幻觉妄想的作用</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氯丙嗪：有明显地镇静、控制兴奋以及抗幻觉妄想作用。对心血管、肝功能影响较大。</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奋乃静：除镇静作用不如氯丙嗪外，其他同氯丙嗪。此外对心血管系统、肝和造血系统的副作用较氯丙嗪轻。适用于老年、躯体情况较差的患者。</a:t>
            </a: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304920" y="1371240"/>
            <a:ext cx="7624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三氟拉嗪</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氟哌啶醇：抗幻觉妄想作用突出，镇静作用很弱心血管及肝毒性小，锥体外系副作用较大。</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舒必利：具有较强的抗精神障碍作用，治疗范围较广，适用于情绪活跃的患者，对觉、妄想等症状。</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目前：常用第二代抗精神障碍药（非经典）</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平衡阻滞</a:t>
            </a:r>
            <a:r>
              <a:rPr b="1" lang="en-US" sz="2800" spc="-1" strike="noStrike">
                <a:solidFill>
                  <a:srgbClr val="000000"/>
                </a:solidFill>
                <a:latin typeface="宋体"/>
                <a:ea typeface="宋体"/>
              </a:rPr>
              <a:t>5-TH</a:t>
            </a:r>
            <a:r>
              <a:rPr b="1" lang="zh-CN" sz="2800" spc="-1" strike="noStrike">
                <a:solidFill>
                  <a:srgbClr val="000000"/>
                </a:solidFill>
                <a:latin typeface="宋体"/>
                <a:ea typeface="宋体"/>
              </a:rPr>
              <a:t>（</a:t>
            </a:r>
            <a:r>
              <a:rPr b="0" lang="zh-CN" sz="2800" spc="-1" strike="noStrike">
                <a:solidFill>
                  <a:srgbClr val="8ac8de"/>
                </a:solidFill>
                <a:latin typeface="Verdana"/>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与</a:t>
            </a:r>
            <a:r>
              <a:rPr b="1" lang="en-US" sz="2800" spc="-1" strike="noStrike">
                <a:solidFill>
                  <a:srgbClr val="000000"/>
                </a:solidFill>
                <a:latin typeface="宋体"/>
                <a:ea typeface="宋体"/>
              </a:rPr>
              <a:t>D</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受体起到治疗作用，不但对幻觉妄想等阳性症状有效，对情感平淡、意志减退等阴性症状也有一定疗效。代表药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利培酮、奥氮平、氯氮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285840" y="128556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继续治疗和维持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继续治疗：在急性期精神症状已得到控制后，宜继续用治疗剂量持续</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月左右，以期继续获得进一步改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维持治疗：采用维持治疗，可减少复发或再住院。一般在第一次发作后，用药物维持治疗</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年。如果患者为第二次发作，药物维持的时间更长。</a:t>
            </a: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360" y="1341360"/>
            <a:ext cx="9396360" cy="496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电休克治疗：适用于</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严重兴奋躁动、冲动、伤人损物者，需尽快控制精神症状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有严重抑郁，有强烈自责自罪、自伤、自杀行为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拒食、违拗和紧张木僵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治疗无效或对药物不能耐受者。</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例题】抗精神病药物应用原则不包括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用药前进行常规的体检和辅助检查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尽可能单一用药</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从小剂量开始，迅速加到治疗剂量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剂量个体化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足量、足疗程</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C</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4" presetSubtype="16">
                                  <p:stCondLst>
                                    <p:cond delay="0"/>
                                  </p:stCondLst>
                                  <p:childTnLst>
                                    <p:set>
                                      <p:cBhvr>
                                        <p:cTn id="41" dur="1" fill="hold">
                                          <p:stCondLst>
                                            <p:cond delay="0"/>
                                          </p:stCondLst>
                                        </p:cTn>
                                        <p:tgtEl>
                                          <p:spTgt spid="155">
                                            <p:txEl>
                                              <p:pRg st="6" end="6"/>
                                            </p:txEl>
                                          </p:spTgt>
                                        </p:tgtEl>
                                        <p:attrNameLst>
                                          <p:attrName>style.visibility</p:attrName>
                                        </p:attrNameLst>
                                      </p:cBhvr>
                                      <p:to>
                                        <p:strVal val="visible"/>
                                      </p:to>
                                    </p:set>
                                    <p:animEffect filter="box(in)" transition="in">
                                      <p:cBhvr additive="repl">
                                        <p:cTn id="42" dur="500"/>
                                        <p:tgtEl>
                                          <p:spTgt spid="1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预后</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预后与临床特点和治疗有关。一般起病较急，有明显诱因，病前性格无明显缺陷，家族遗传史不明显，病程为间断发作，预后较好。如能早期发现及治疗，多数可获得较满意疗效，症状可及时控制。预后随着抗精神障碍药物的广泛应用，临床缓解率明显提高。预后亦与家庭照顾、复发次数有关。</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
          <p:cNvSpPr txBox="1"/>
          <p:nvPr/>
        </p:nvSpPr>
        <p:spPr>
          <a:xfrm>
            <a:off x="285840" y="1285560"/>
            <a:ext cx="8858160" cy="43657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重点总结</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概念：意识、智能是否受损</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病因：单基因还是多基因</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诊断时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月还是</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阴性症状首选利培酮还是氯丙嗪。</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常用第二代抗精神障碍药：</a:t>
            </a:r>
            <a:r>
              <a:rPr b="1" lang="zh-CN" sz="2800" spc="-1" strike="noStrike">
                <a:solidFill>
                  <a:srgbClr val="fe230c"/>
                </a:solidFill>
                <a:latin typeface="宋体"/>
                <a:ea typeface="宋体"/>
              </a:rPr>
              <a:t>利培酮、奥氮平、氯氮平</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对于精神分裂症除药物治疗外，要注意的是防止发生意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285840" y="1285560"/>
            <a:ext cx="84103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精神分裂症患者的护理</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护理评估</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评估主观资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认知活动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活动：评估患者情感活动与思维内容、环境是否协调，情感是否受幻觉、妄想影响。</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活动：评估患者意志和行为活动的情况，意志行为活动是否受幻觉、妄想的影响。</a:t>
            </a: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评估客观资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躯体状况</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对疾病认识的评估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社会心理状况评估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治疗情况评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实验室及其他辅助检查评估</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Rectangle 3"/>
          <p:cNvSpPr/>
          <p:nvPr/>
        </p:nvSpPr>
        <p:spPr>
          <a:xfrm>
            <a:off x="500040" y="1357200"/>
            <a:ext cx="815328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第一节 精神分裂症的临床特点</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精神分裂症（</a:t>
            </a:r>
            <a:r>
              <a:rPr b="1" lang="en-US" sz="3200" spc="-1" strike="noStrike">
                <a:solidFill>
                  <a:srgbClr val="000000"/>
                </a:solidFill>
                <a:latin typeface="宋体"/>
                <a:ea typeface="宋体"/>
              </a:rPr>
              <a:t>schizophrenia</a:t>
            </a:r>
            <a:r>
              <a:rPr b="1" lang="zh-CN" sz="3200" spc="-1" strike="noStrike">
                <a:solidFill>
                  <a:srgbClr val="000000"/>
                </a:solidFill>
                <a:latin typeface="宋体"/>
                <a:ea typeface="宋体"/>
              </a:rPr>
              <a:t>）是一组病因未明的精神障碍，具有思维、知觉、情感和行为等多方面的障碍，</a:t>
            </a:r>
            <a:r>
              <a:rPr b="1" lang="zh-CN" sz="3200" spc="-1" strike="noStrike">
                <a:solidFill>
                  <a:srgbClr val="ff0000"/>
                </a:solidFill>
                <a:latin typeface="宋体"/>
                <a:ea typeface="宋体"/>
              </a:rPr>
              <a:t>以精神活动脱离现实与周围环境不协调为主要特征。一般无意识和智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诊断</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有暴力行为的危险：对自己或对他人  与幻觉、妄想、精神运动性兴奋、意向倒错、自知力缺乏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不合作  与自知力缺乏、违拗、不合作、不能耐受药物不良反应、不能耐受医院生活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过程改变  与思维联想障碍、思维逻辑障碍、妄想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理能力缺陷  与紧张性木僵，疾病急性期，精神症状丰富，极度焦虑、紧张，精神衰退、生活懒散，自伤、他伤而造成行为不良等因素有关。</a:t>
            </a:r>
            <a:endParaRPr b="1" lang="en-US" sz="24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360" y="1285920"/>
            <a:ext cx="8967960" cy="495144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语言沟通障碍  与思维破裂或贫乏、木僵状态、违拗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进食障碍：低于机体需要量  与幻觉、妄想、违拗引起的拒食或少食、极度兴奋、躁动、紧张性木僵、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自我形象紊乱  与感知综合障碍、妄想、恢复期不能面对未来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睡眠型态紊乱  与环境生疏、警觉性增强、精神症状丰富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角色紊乱  与自知力缺乏、非系统妄想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个人应对无效  与无能力应对妄想的内容、对现实问题无奈、难以耐受的药物不良反应等因素有关。</a:t>
            </a:r>
            <a:endParaRPr b="1" lang="en-US" sz="24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目标</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控制异常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恢复社会功能 </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正确评价 </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知力好转或恢复  患者对精神症状有正确认识，自知力恢复或部分恢复，能正确认识各种治疗作用与不良反应的关系，主动服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生活自理  患者在住院期间生活自理，正常进食，睡眠改善，防止发生伤害。</a:t>
            </a:r>
            <a:endParaRPr b="1" lang="en-US" sz="24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285840" y="1285560"/>
            <a:ext cx="8610480" cy="507204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措施</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基础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制订护理计划</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生活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饮食护理：对于木僵患者，由于患者常在夜深人静时恢复肢体活动、自行进食等，可将饭菜放置于患者床旁，保持环境安静，在避开患者视线下，观察其进食情况</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睡眠护理：减少白天卧床、睡眠的时间</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二便护理</a:t>
            </a:r>
            <a:endParaRPr b="1" lang="en-US" sz="24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56760" y="1213920"/>
            <a:ext cx="861084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安全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掌握病情：对异常行为要劝说阻止，防止发生意外。</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加强巡视：对严重自杀的患者，要专人护理，</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监护，使患者在护理人员的视线内活动；对不合作的患者要适当限制其活动范围，防止患者出现逃离医院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严密观察：发现异常情况时，应立即报告医生，并做好抢救准备。</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采取措施，防止发生意外。</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安全管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285840" y="121392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症状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以幻觉、妄想为主要表现的患者　在幻觉妄想支配下，患者可出现不合作、逃离医院、伤人、自伤等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兴奋为主要表现的患者，可出现冲动、伤人、毁物，生活不能自理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以木僵为主要表现的患者，多为精神运动抑制，生活不能自理，违拗、不合作。</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对意志行为抑制的患者，表现为生活懒散，无意向要求，对任何事情都无情感反应。</a:t>
            </a:r>
            <a:endParaRPr b="1" lang="en-US" sz="2400" spc="-1" strike="noStrike">
              <a:solidFill>
                <a:srgbClr val="8ac8de"/>
              </a:solidFill>
              <a:latin typeface="Verdana"/>
            </a:endParaRPr>
          </a:p>
        </p:txBody>
      </p:sp>
      <p:sp>
        <p:nvSpPr>
          <p:cNvPr id="17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药物治疗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口服用药　防止患者藏药，服药后检查患者口腔，观察用药后不良反应，如患者出现锥体外系反应、心血管反应、皮肤过敏、精神方面的症状等应与医生及时取得联系，给予</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对症处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注射用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遇有不合作的患者需耐心解释、劝说，尽量争取得到患者的配合。</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准确执行医嘱，核对药物剂量。</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五）心理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入院阶段　加强与患者的心理沟通，建立良好的护患关系，取得患者的信任，找出主要问题。</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治疗阶段　掌握病情动态变化规律。</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阶段　康复期患者的心理变化和精神负担是多种多样的，如担心出院后社会、同事、朋友甚至家人不能接纳自己，担心自己能否继续工作、学习、结婚、过正常人的生活等。协助患者维持心身平衡，使其在生理、心理各方面都处于接受治疗和管理的最佳状态，达到维护健康、预防疾病、促进康复的目标。</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六）康复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入院期：针对患者新入院的特点，为患者制订住院期间的康复计划，督促、训练患者每日完成生活料理，让患者参加一般性的活动，如散步、做操、听音乐等，以达到安心住院的目的。</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治疗期：根据病情变化，适宜地指导患者参加一些简单的工疗、娱疗，如折纸、粘贴、编织、唱歌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期　根据患者兴趣、爱好，在护士带领下安排适当的康复活动，如书法、绘画、表演、体育比赛、手工艺制作、炊事作业及外出活动购物等，为患者回归社会打下基础。</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324000" y="1285920"/>
            <a:ext cx="8820000" cy="50227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评价</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精神症状得到缓解或消失，自知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能正常进食、睡眠和排泄，生活自理能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能与护士和病友正常地进行交谈，并能较确切地反映心理问题与心理需要。</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被动或能积极配合治疗和护理，积极参加工娱治疗活动。</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患者的社交能力、社会适应能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无意外事件和并发症发生。</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85840" y="1213920"/>
            <a:ext cx="861048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病因及发病机制</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确切的病因尚不清楚，但许多因素与发病有关。</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因素</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会环境因素</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假说</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脑结构异常</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躯体生物学因素</a:t>
            </a: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285840" y="13568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健康指导</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　向患者介绍疾病的有关知识，指导患者掌握症状复发的先兆，预防复发及发现药物不良反应的方法。帮助患者明确坚持服药、定期门诊复查的必要性。</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家属　指导家属学习有关疾病知识及预防疾病复发的常识。教会家属为患者创造良好的家庭护理环境，使患者学会在家庭环境中改善人际关系的方法，给患者提供与家人、社</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会接触的机会。指导家属学会简单的观察、识别、判断症状复发的方法。</a:t>
            </a:r>
            <a:endParaRPr b="1" lang="en-US" sz="24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285840" y="121392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总  结</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掌握精神分裂症概念及表现。精神分裂症类型包括单纯型、青春型、紧张型、偏执型。精神分裂症护理从五个方面学习，包括护理评估、护理诊断、护理目标、护理措施及护理评价。</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在明确本章学习目标的基础上结合已学过的常见精神症状的相关知识进行学习。</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同学之间可以互相交流自己所接触过的案例，结合自己所掌握的知识和查阅一些课外专业书籍，在一起进行更深层次的讨论。</a:t>
            </a:r>
            <a:endParaRPr b="1" lang="en-US" sz="24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840" y="128556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临床表现</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联想障碍：联想过程中缺乏连贯性和逻辑性是本病的特征性症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境障碍：情感淡漠、情感不协调也是精神分裂症的特征。</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障碍：特征是意志活动减退或缺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常见症状：常见幻觉、妄想和紧张症候群等症状。</a:t>
            </a:r>
            <a:endParaRPr b="1" lang="en-US" sz="28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5840" y="1428840"/>
            <a:ext cx="86248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自知力缺乏：</a:t>
            </a:r>
            <a:r>
              <a:rPr b="1" lang="zh-CN" sz="2800" spc="-1" strike="noStrike">
                <a:solidFill>
                  <a:srgbClr val="000000"/>
                </a:solidFill>
                <a:latin typeface="宋体"/>
                <a:ea typeface="宋体"/>
              </a:rPr>
              <a:t>绝大多数患者认为自己的病态体验不是自己有病，而是由于某些人企图恶意加害他。由于缺乏自知力，患者往往不愿意接受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无意识障碍：精神分裂症患者大多没有意识障碍，妄想、幻觉、联想障碍等都是在意识清晰情况下出现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无智能障碍：一般查不出智能障碍。</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内容占位符 1"/>
          <p:cNvSpPr/>
          <p:nvPr/>
        </p:nvSpPr>
        <p:spPr>
          <a:xfrm>
            <a:off x="571680" y="1258920"/>
            <a:ext cx="7858080" cy="48848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补充内容：临床表现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精神分裂症的核心症状包括阳性症状、阴性症状和认知功能障碍。</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阳性症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认识过程障碍：</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幻觉：最常见的是幻听。</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联想障碍：有思维散漫、思维破裂、强制性思维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矩形 2"/>
          <p:cNvSpPr/>
          <p:nvPr/>
        </p:nvSpPr>
        <p:spPr>
          <a:xfrm>
            <a:off x="428760" y="1225440"/>
            <a:ext cx="8143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妄想：常见的妄想有被害妄想、关系妄想</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形式的思维逻辑障碍：病理性象征性思维、语词新作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过程障碍：精神分裂症的情感障碍主要表现为情感活动的不协调，如矛盾情感、情感倒错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方面的特殊表现：主要表现有紧张综合征的症状、意向倒错、作态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矩形 2"/>
          <p:cNvSpPr/>
          <p:nvPr/>
        </p:nvSpPr>
        <p:spPr>
          <a:xfrm>
            <a:off x="785880" y="1285920"/>
            <a:ext cx="55720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阴性症状</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思维贫乏。</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平淡或情感淡漠。</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减退：呆坐、懒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18:57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